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D7F-3E1A-4AEB-A364-F89C7554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20C-EABE-44E5-87E3-84A45D86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DF1-1ACD-4355-AE2A-4F96FC2C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AF1-C956-4C02-9A39-73DDE082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14E-2D5D-4766-B2C9-8DE4B2D9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9EE-B020-4056-9EA4-8A059A01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5BD-108C-4F0C-A555-EA0A5DFC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278-8AFE-4D78-BC4D-399E7337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A39-3A3D-402D-B8FA-0B20366C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022-21E3-48E1-AF1B-44B7D8E0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836-D5D2-4E9D-9868-AF174EDB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AA0-71E3-49B7-9230-CB0E1659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E620-5F03-488E-A42F-C412ABBCC82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1 Keď za obzor sa stráca d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teba v hmlách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stráca ci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zmysel života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si Pane, poklad mô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iery istot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ty sám si Pane, poklad mô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iery istot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za obzor sa stráca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c vládu preber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príroda sa vôkol n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s k spánku uber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nášho domu, Pane vstúp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hosťom vítaným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každej noci nám vždy svie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 chráň pred všetkým zlý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každej noci nám vždy svie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 chráň pred všetkým zl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zvoľna deň sa strác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má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znova ďakuj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 každou túžbou, bolesť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tebe zveriť smie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každým šípom ohnivý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ňa chráni tvoja dla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 každou túžbou, bolesť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tebe zveriť smie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každým šípom ohnivý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ňa chráni tvoja dla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Pane, preto prosím, vžd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vôľa tvoja sta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Pane, preto prosím, vžd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vôľa tvoja staň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už sa kráti žitia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viac ma môže hri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ž v lásky tvojom náruč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ieť tíško spočí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9:16:21Z</dcterms:modified>
  <cp:revision>55</cp:revision>
  <dc:subject/>
  <dc:title>Je veľký náš Pán, on slávy je Kráľ Nech do všetkých strán  spev vrúcnych znie chvál.</dc:title>
</cp:coreProperties>
</file>